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43800" y="655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High Performance TCP/IP Networking, Hassan-J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6858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251460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7200" spc="-1" strike="noStrike">
                <a:solidFill>
                  <a:srgbClr val="ff6600"/>
                </a:solidFill>
                <a:latin typeface="Times New Roman"/>
              </a:rPr>
              <a:t>TCP/IP Performance over Mobile Network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Mobile IP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iangle routing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outing optimiza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g. 7.2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2" name="fig7-2" descr=""/>
          <p:cNvPicPr/>
          <p:nvPr/>
        </p:nvPicPr>
        <p:blipFill>
          <a:blip r:embed="rId1"/>
          <a:stretch/>
        </p:blipFill>
        <p:spPr>
          <a:xfrm>
            <a:off x="2819520" y="1598760"/>
            <a:ext cx="5105160" cy="47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Impacts of Mobility on TCP Performance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lackout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c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ading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grade TCP throughpu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ndoff latenc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acket re-routing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rsty loss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grade TCP throughpu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Impacts of Mobility on TCP Performance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iangular routing and large RT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riangular causes extra dela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CP throughput inversely proportional to RT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arge RTT results lesser throughpu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Approaches to Improve TCP Performance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ireless TCP (WTCP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ate-based transmiss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-transmission timer not use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ter-packet separation is used as indication of congestion (as opposed to packet loss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nly consider forward path characteristics when performing congestion contro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llow TCP to ramp up to the available bandwidth in one RT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Approaches to Improve TCP Performance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ast hand-off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 uses multicast address to forward packet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ackets are automatically forwarded to B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new BS joins the multicast group before hand-off occur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new BS buffers last few packet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new BS starts forwarding the buffered packets to the mobile host after hand-off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Approaches to Improve TCP Performance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d-to-end approach to host mobilit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 mobile host updates DNS with its new address, upon moving into a new network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rresponding hosts learn the new address in a seamless manne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igrate all TCP connections to the new location of the mobile hos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2133720"/>
            <a:ext cx="746748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TCP Performa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in Adhoc Network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CP Performance Issues in Ad Hoc Network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oute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CP may lose a congestion window of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arge RTT 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grade TCP through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oute Re-co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cur extra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sult in a more inflated re-transmission time-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CP Performance Issues in Ad Hoc Networks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etwork Par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CP may reset the connection  if the partition lasts for more than 100 se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CP enters slow-start phase after cutting down its window size t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grade TCP through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Approaches for Improvemen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CP-feedback and TCP-ELF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mploy Explicit Link Failure Notification (ELF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 source node issues a route re-computation request upon receipt of an ELF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set TCP congestion window size to half its size (instead of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Objective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plain the characteristics of mobile network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erstand specific issues concerning TCP performance degradation due to mobilit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arn techniques to address TCP performance problems caused by mobilit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Approaches for Improvement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p-by-hop rate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ach router (mobile host) performs rate control on each of its outgoing links based on feedback from downstream ro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eedback time is min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re responsive to route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523880"/>
            <a:ext cx="8153280" cy="3048120"/>
          </a:xfrm>
          <a:prstGeom prst="flowChart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aracteristics of mobile networ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CP performance in cellular networ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CP performance in ad hoc networ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8360" y="2514600"/>
            <a:ext cx="393732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Mobile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Network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haracteristics of Mobile Network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ellular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e station (BS) arbitrates channel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bile hosts communicate with each other via B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d hoc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 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ll mobile hosts act as ro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g. 7.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Cellular vs Ad-hoc Network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53" name="fig7-1" descr=""/>
          <p:cNvPicPr/>
          <p:nvPr/>
        </p:nvPicPr>
        <p:blipFill>
          <a:blip r:embed="rId1"/>
          <a:stretch/>
        </p:blipFill>
        <p:spPr>
          <a:xfrm>
            <a:off x="990720" y="1638360"/>
            <a:ext cx="7086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79120" y="1828800"/>
            <a:ext cx="73663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TCP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Performance in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Cellular Network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Mobile IP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pport mobility of Internet user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titi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bile host (MH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c corresponding host (SH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ome agent (HA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eign agent (FA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Mobile IP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rat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ward path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isiting mobile host registers with H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 receives packets on behalf of the mobile hos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 tunnels IP packets to the mobile hos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verse path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mobile host sends packets directly to the SH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13:04:32Z</dcterms:created>
  <dc:creator>AA</dc:creator>
  <dc:description/>
  <dc:language>en-US</dc:language>
  <cp:lastModifiedBy>Mahbub Hassan</cp:lastModifiedBy>
  <dcterms:modified xsi:type="dcterms:W3CDTF">2003-12-15T11:26:51Z</dcterms:modified>
  <cp:revision>27</cp:revision>
  <dc:subject/>
  <dc:title>Objectives</dc:title>
</cp:coreProperties>
</file>