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43800" y="655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High Performance TCP/IP Networking, Hassan-J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6858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600200" y="289548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7200" spc="-1" strike="noStrike">
                <a:solidFill>
                  <a:srgbClr val="ff6600"/>
                </a:solidFill>
                <a:latin typeface="Times New Roman"/>
              </a:rPr>
              <a:t>TCP/IP Fundamenta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Acknowledgement Mechanism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umulative ACK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CK-only segment and Piggyback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layed ACK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uplicate ACK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Retransmission Mechanism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transmission time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stimation of RT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anularity of RT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ypically 1 sec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maller value used in some implementations (e.g. Solaris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Flow Control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vent buffer overflow at TCP receive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gulate sending rate at TCP sende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echanism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liding window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p37, Fig. 2.5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1" name="fig2-5" descr=""/>
          <p:cNvPicPr/>
          <p:nvPr/>
        </p:nvPicPr>
        <p:blipFill>
          <a:blip r:embed="rId1"/>
          <a:stretch/>
        </p:blipFill>
        <p:spPr>
          <a:xfrm>
            <a:off x="4038480" y="2933640"/>
            <a:ext cx="480060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ngestion Control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event buffer overflow at router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gulate sending rate at TCP sende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echanism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low-Star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gestion Avoidanc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dditive Increase, Multiplicative Decrease (AIMD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TCP Slow Star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75" name="fig2-6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604512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Start with small window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Increased window by 1 each time ACK rcv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Window increases exponentiall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TCP Congestion Avoidance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78" name="fig2-7" descr=""/>
          <p:cNvPicPr/>
          <p:nvPr/>
        </p:nvPicPr>
        <p:blipFill>
          <a:blip r:embed="rId1"/>
          <a:stretch/>
        </p:blipFill>
        <p:spPr>
          <a:xfrm>
            <a:off x="685800" y="2616120"/>
            <a:ext cx="6095880" cy="3848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80720" y="15235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Exponential increase may cause conges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Force linear increase after a threshol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Linear increase avoids possible conges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30800" y="2590920"/>
            <a:ext cx="228852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UDP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UDP Service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nnectionles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atagram-oriente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reliabl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ication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lticasting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etwork managem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outing Table Upd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al-time multimedi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Key Differences Between </a:t>
            </a:r>
            <a:br>
              <a:rPr sz="4000"/>
            </a:b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TCP and UDP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C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D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nection-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nection-l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ream-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atagram-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rel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low-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 Flow-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gestion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 congestion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UDP Header Forma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Fig 2.8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8" name="fig2-8" descr=""/>
          <p:cNvPicPr/>
          <p:nvPr/>
        </p:nvPicPr>
        <p:blipFill>
          <a:blip r:embed="rId1"/>
          <a:stretch/>
        </p:blipFill>
        <p:spPr>
          <a:xfrm>
            <a:off x="1066680" y="3076560"/>
            <a:ext cx="74678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Objective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ain an understanding of the basic services provided by TCP, UDP and IP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plain the congestion control algorithms employed by TCP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scribe protocol details of TCP needed to ensure reliable transfer over unreliable network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UDP Header Format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Source port (16 bits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Destination port (16 bits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Length (16 bits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Checksum (16 bits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5334120"/>
            <a:ext cx="49528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cc99"/>
                </a:solidFill>
                <a:latin typeface="Times New Roman"/>
              </a:rPr>
              <a:t>UDP Header is only 8 bytes lo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Encapsulation in IP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UDP packets are encapsulated in IP payload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Similar to TCP (see Fig 2.2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First 8 bytes of IP payload contains UDP heade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8000" y="2743200"/>
            <a:ext cx="132372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IP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IP Service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Provides an unreliable datagram servic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IP datagrams may arrive out of order, because different datagrams may take different routes in the network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Datagrams may get los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Duplicates may be received (if one is retransmitted when the original is still in the network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Fragmentation and Reassembly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Intermediate routers may fragment an IP datagram into several IP datagram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If it does not fit in the payload of link layer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Fragmentation increases number of bits transmitted for a given TCP segmen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Different fragments may travel different path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If one fragment is lost, entire IP datagram is discarded at the destin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fig2-10" descr=""/>
          <p:cNvPicPr/>
          <p:nvPr/>
        </p:nvPicPr>
        <p:blipFill>
          <a:blip r:embed="rId1"/>
          <a:stretch/>
        </p:blipFill>
        <p:spPr>
          <a:xfrm>
            <a:off x="1600200" y="857160"/>
            <a:ext cx="7543800" cy="5646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IP Header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ig 2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IP Header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Version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Header Length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Type of Servic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Total Length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Identifie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Flags and Fragment Offse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IP Header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Time to liv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Protoco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Header Checksum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Source and Destination Address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Opt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5562720"/>
            <a:ext cx="64771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cc99"/>
                </a:solidFill>
                <a:latin typeface="Times New Roman"/>
              </a:rPr>
              <a:t>IP Header is 20 bytes long (without option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523880"/>
            <a:ext cx="8153280" cy="3124440"/>
          </a:xfrm>
          <a:prstGeom prst="flowChart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CP services and protocol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DP services and protocol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P services and protocol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560" y="297180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TCP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CP Service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nection-oriented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eam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ll-duplex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d-to-end semantic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CP Header Forma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g. 2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fig2-1" descr=""/>
          <p:cNvPicPr/>
          <p:nvPr/>
        </p:nvPicPr>
        <p:blipFill>
          <a:blip r:embed="rId1"/>
          <a:stretch/>
        </p:blipFill>
        <p:spPr>
          <a:xfrm>
            <a:off x="2971800" y="2001960"/>
            <a:ext cx="56386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CP Header Format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urce Port (16 b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stination Port (16 b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quence number (32 b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ck number (32 b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eader Length (4 b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erved (6 b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CP Header Format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lags (6 b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eiver window size (16 b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ecksum (16 b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rgent Pointer (16 b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tions (varia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5562720"/>
            <a:ext cx="64771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cc99"/>
                </a:solidFill>
                <a:latin typeface="Times New Roman"/>
              </a:rPr>
              <a:t>TCP Header is 20 bytes long (without option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Encapsulation in IP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g. 2.2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4" name="fig2-2" descr=""/>
          <p:cNvPicPr/>
          <p:nvPr/>
        </p:nvPicPr>
        <p:blipFill>
          <a:blip r:embed="rId1"/>
          <a:stretch/>
        </p:blipFill>
        <p:spPr>
          <a:xfrm>
            <a:off x="2362320" y="3203640"/>
            <a:ext cx="632448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13:04:32Z</dcterms:created>
  <dc:creator>AA</dc:creator>
  <dc:description/>
  <dc:language>en-US</dc:language>
  <cp:lastModifiedBy>Mahbub Hassan</cp:lastModifiedBy>
  <dcterms:modified xsi:type="dcterms:W3CDTF">2003-12-15T06:33:23Z</dcterms:modified>
  <cp:revision>32</cp:revision>
  <dc:subject/>
  <dc:title>Objectives</dc:title>
</cp:coreProperties>
</file>