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22096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Performance Measurement of TCP/IP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assification of Measurement Too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ending on purposes of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nitoring tools (e.g. Tcpdump, tcpst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nchmarking tools (e.g. ttcp, NetPerf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g 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3-1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31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assification of Measurement Tool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ing on level of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rdwar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9760" y="1905120"/>
            <a:ext cx="57906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easurement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oo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ractical Measurement Tool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pe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P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BS (Distributed Benchmark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dum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pture header/payload inform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lemented on Unix platfor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libpca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Capture and filter pack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tcpdum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Analyze packet structur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" name="fig3-2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839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st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port TCP related statistics periodicall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ndwidth us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. of packets exchang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vg packet siz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libpca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Capture and filter pack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tcpsta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Count pack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oked with superuser privile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tc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asure TCP throughpu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D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stall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9" name="fig3-13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0773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etperf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tive testing tool (benchmarking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sure available bandwidth between two nod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jor featur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ate different traffic patter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ulk data transfer (e.g. FTP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ractive data exchange (e.g. rlogi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ailed and precise measure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sides TCP/UDP, also support datalink and other network protocol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etperf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g. 3.1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4" name="fig3-15" descr=""/>
          <p:cNvPicPr/>
          <p:nvPr/>
        </p:nvPicPr>
        <p:blipFill>
          <a:blip r:embed="rId1"/>
          <a:stretch/>
        </p:blipFill>
        <p:spPr>
          <a:xfrm>
            <a:off x="457200" y="3540240"/>
            <a:ext cx="81532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etPIP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nchmarking too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-orient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optimal message siz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bserve congestion level with a particular message siz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tocols supported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PI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P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eciate the role of measurement in building and maintaining high-performance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lain the types of tools available for performance measur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miliarize with freely available performance measurement and testing tool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an appropriate tool for a given tas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etPIPE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g. 3.17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9" name="fig3-17" descr=""/>
          <p:cNvPicPr/>
          <p:nvPr/>
        </p:nvPicPr>
        <p:blipFill>
          <a:blip r:embed="rId1"/>
          <a:stretch/>
        </p:blipFill>
        <p:spPr>
          <a:xfrm>
            <a:off x="457200" y="2935440"/>
            <a:ext cx="807732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DBS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(Distributed Benchmark System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sure performance of multiple TCP connections in parall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 sophisticated test traffic patter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aluation of other important aspects of TC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transmission contro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gestion avoidance contro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DB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43240" y="137160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g. 3.20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4" name="fig3-20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39132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mparis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ble 3.9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 six tools are compared against 10 different featur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066680"/>
            <a:ext cx="63244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electing  Right To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lecting the Right Too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ngs need to be consider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ment capabil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tform support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ment objectiv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fer to Tables 3.9 and 3.10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7339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y network measur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surement tas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fication of measurement too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actical measurement too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lecting the right too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8680" y="2514600"/>
            <a:ext cx="59202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Why Network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easur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y Network Measurement 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work manag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nitor performance (e.g. performance bottleneck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prove network servi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work traffic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racterize traffic lo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put for network desig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y Network Measurement (Cont.) 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twork researc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llect packet tra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alidate TCP mod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tocol implem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pect packet head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dentify packet paylo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bu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7920" y="2362320"/>
            <a:ext cx="57906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easurement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as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easurement Tas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collec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Collect raw data from operation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Obtain traffic characteristics (e.g. avg. throughput, dela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sent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Visualize network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pret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Ultimate goal of measurement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6880" y="2362320"/>
            <a:ext cx="569304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ool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lassificatio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0:28:40Z</dcterms:modified>
  <cp:revision>28</cp:revision>
  <dc:subject/>
  <dc:title>Objectives</dc:title>
</cp:coreProperties>
</file>