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New TCP Standa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And Flav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SACK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void timeouts in the case of multiple consecutive lo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form the sender which segments have been receiv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he receiver uses TCP SACK blocks to indicate contiguous blocks of data successfully receiv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he sender infers (from the SACK blocks) which segments are missing (holes in Seq. No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he sender retransmits missing segments without waiting for timeo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36232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Forwa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cknowledg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Forward Acknowledgment (FACK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Better recovery from multiple consecutive lo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Keep track of the correctly received data with the highest sequence numb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maintains 2 additional variable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fack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: represents the forward-most segment ACK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retran_data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: reflects the amount of outstanding retransmitted  dat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stimate the amount of outstanding data during recover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362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Veg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Vega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undamentally different from other TCP varian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ot wait for loss to trigger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cwnd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 redu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stimate current throughput every RT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Compare current throughput with the expected throughp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Linearly increase </a:t>
            </a:r>
            <a:r>
              <a:rPr b="0" i="1" lang="en-AU" sz="2000" spc="-1" strike="noStrike">
                <a:solidFill>
                  <a:srgbClr val="3333cc"/>
                </a:solidFill>
                <a:latin typeface="Times New Roman"/>
              </a:rPr>
              <a:t>cwnd</a:t>
            </a: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 if </a:t>
            </a:r>
            <a:r>
              <a:rPr b="0" i="1" lang="en-AU" sz="2000" spc="-1" strike="noStrike">
                <a:solidFill>
                  <a:srgbClr val="3333cc"/>
                </a:solidFill>
                <a:latin typeface="Times New Roman"/>
              </a:rPr>
              <a:t>diff </a:t>
            </a: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&lt; 2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Linearly decrease </a:t>
            </a:r>
            <a:r>
              <a:rPr b="0" i="1" lang="en-AU" sz="2000" spc="-1" strike="noStrike">
                <a:solidFill>
                  <a:srgbClr val="3333cc"/>
                </a:solidFill>
                <a:latin typeface="Times New Roman"/>
              </a:rPr>
              <a:t>cwnd</a:t>
            </a: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 if </a:t>
            </a:r>
            <a:r>
              <a:rPr b="0" i="1" lang="en-AU" sz="2000" spc="-1" strike="noStrike">
                <a:solidFill>
                  <a:srgbClr val="3333cc"/>
                </a:solidFill>
                <a:latin typeface="Times New Roman"/>
              </a:rPr>
              <a:t>diff </a:t>
            </a: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&gt; 4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odified slow start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Find the correct window size without incurring a los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odified retransmiss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Retransmit after one duplicate ACK (as opposed to 3 dupacks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36232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Comparing TC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Flav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6600"/>
                </a:solidFill>
                <a:latin typeface="Times New Roman"/>
              </a:rPr>
              <a:t>Performance Comparison of TCP Flavors</a:t>
            </a:r>
            <a:endParaRPr b="1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etwork topology us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ig. 11.3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Compare performance of TCP variants against TCP Reno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3" name="fig11-3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262872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Performance Comparison of TCP Flavor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Goodpu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able 11.2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ound trip tim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able 11.3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ime granularit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able 11.4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re the variations in congestion congestion control algorithms of different TCP flavo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 how network simulation can be used to compare the performance of different TCP flow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464832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ast retransmission and fast recov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NewRe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ive Acknowledgement (SACK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ward Acknowledgement (FACK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CP Vega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erformance comparison of TCP flavo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50440" y="1828800"/>
            <a:ext cx="65037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Fast Retransm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Fast Recove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Fast Retransmi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uplicate ACKs (</a:t>
            </a: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dupacks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) trigger retransmiss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void retransmission timeo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ctions performed by the sender upon receiving 3 </a:t>
            </a: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dupacks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duce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ssthresh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 to half of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cwn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set </a:t>
            </a: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cwnd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 to 1 seg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transmit the lost TCP seg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mplemented in TCP Taho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Fast Recove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Based on the fact that a duplicate ACK (dupack) indicates that a segment has left the networ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Keep track of of the No. of </a:t>
            </a: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dupacks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 receiv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flate cwnd by one segment for each dupack receiv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me out of fast recovery when receives an ACK for the segment resulting in the duplicate AC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imeout still occurs when there are multiple consecutive loss in a window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50800" y="2209680"/>
            <a:ext cx="622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New Ren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NewReno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ffects of timeout on throughput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CP cannot send data during timeout perio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3333cc"/>
                </a:solidFill>
                <a:latin typeface="Times New Roman"/>
              </a:rPr>
              <a:t>cwnd</a:t>
            </a: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 is reset to 1 seg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void timeouts in the case of multiple consecutive lo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Upon receipt of a partial ACK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oes not come out of fast recover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ssume the segment immediately after the most recently ACKed segment has been los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transmit the lost (assumed) segm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362320"/>
            <a:ext cx="7467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electiv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cknowledg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49:33Z</dcterms:modified>
  <cp:revision>32</cp:revision>
  <dc:subject/>
  <dc:title>Objectives</dc:title>
</cp:coreProperties>
</file>