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00200" y="28954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/IP Network Simul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ypes of simul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tinuos vs. discret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rminating vs. stead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thetic vs. trace-dr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Steady Stat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f we are interested in asymptotic behavior of a network system, we cannot use terminating simula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ust continue until it reaches steady stat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5" name="fig4-2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2552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race-Driven Simul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ctual network traces can be used as simulation in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Results can be more convinc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8" name="fig4-3" descr=""/>
          <p:cNvPicPr/>
          <p:nvPr/>
        </p:nvPicPr>
        <p:blipFill>
          <a:blip r:embed="rId1"/>
          <a:stretch/>
        </p:blipFill>
        <p:spPr>
          <a:xfrm>
            <a:off x="914400" y="3849840"/>
            <a:ext cx="77724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066680"/>
            <a:ext cx="63244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Validation and Verific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imulation Validation and Verifica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idation: Make sure that the assumptions are r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erification: Make sure that the model implements assumptions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uidelin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ok for “surprise” in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 analytical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re with real network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066680"/>
            <a:ext cx="63244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Confidence Level Analys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fidence Level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523880"/>
            <a:ext cx="3962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ve precision formula for 95% confidence (see Eq. 4.8, pp. 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fidence level in terminating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eat the entire simulation many times with different random numbers (or see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105, Fig. 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fig4-4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0896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fidence Level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765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fidence level in steady-state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xed length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daptive length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fig4-5" descr=""/>
          <p:cNvPicPr/>
          <p:nvPr/>
        </p:nvPicPr>
        <p:blipFill>
          <a:blip r:embed="rId1"/>
          <a:stretch/>
        </p:blipFill>
        <p:spPr>
          <a:xfrm>
            <a:off x="3429000" y="2352600"/>
            <a:ext cx="54100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066680"/>
            <a:ext cx="63244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elf Similar Traff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elf Similar Traffic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isson model does not capture the burstiness of TCP/IP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CP/IP traffic usually exhibit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lf simila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ated by superimposing many ON/OFF sources with Pareto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fig4-6" descr=""/>
          <p:cNvPicPr/>
          <p:nvPr/>
        </p:nvPicPr>
        <p:blipFill>
          <a:blip r:embed="rId1"/>
          <a:stretch/>
        </p:blipFill>
        <p:spPr>
          <a:xfrm>
            <a:off x="609480" y="3713040"/>
            <a:ext cx="792504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reciate the role of simulation in performance evaluation of TCP/IP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quire the knowledge needed to conduct steady state simu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ster basic skills for analyzing confidenc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cribe types of simulation tools availabl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miliarize with the capabilities of popular simulation tool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1066680"/>
            <a:ext cx="63244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imulation Too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assification of Simulation Tool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PP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General Purpose Programming Langu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S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“Plain” Simulation Langu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Simulation Pack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110, Fig. 4.7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5" name="fig4-7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08660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S Simulator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veloped by UC Berkele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blic domain 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bject-oriente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itten in C++ and object-oriented tcl (Otcl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twork components are represented by class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PNE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veloped by OPNET Technologies Inc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mercial 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bject-oriente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tally menu-driven pack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ilt-in model libraries contain most popular protocols and applica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mulation task made eas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electing the Right Tool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ilt-in librari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dibilit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er-Friendlines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chnical suppor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vel of Detail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ource consump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S vs. OPNE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oth have emerged a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e fact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“standard” for simulating TCP/IP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143, Table 4.6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295280"/>
            <a:ext cx="8153280" cy="510552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y use simul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ystematic simulation stud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simula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ulation validation and verific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fidence level of simulation resul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ulation with self similar traffic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ulation too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360" y="2514600"/>
            <a:ext cx="4452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Why Us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imul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y Use Simula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edict performance for proposed net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llow performance evaluation under a wide variety of network condi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re alternative architectures under identical and repeatable condi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e results closer to realit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idate analytical resul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5640" y="1905120"/>
            <a:ext cx="46810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ystemat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imulatio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tud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ystematic Simulation Stud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-software st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e problem/objectiv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sign network model and select fixed paramete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performance metric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variable paramete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5" name="fig4-1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51814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ystematic Simulation Study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ftware st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del construc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mulation configur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mulation execution/Data collec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 present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87160" y="2362320"/>
            <a:ext cx="4452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ypes of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imul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1:14:21Z</dcterms:modified>
  <cp:revision>31</cp:revision>
  <dc:subject/>
  <dc:title>Objectives</dc:title>
</cp:coreProperties>
</file>