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Performance over Optical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P</a:t>
            </a:r>
            <a:r>
              <a:rPr b="1" lang="en-US" sz="4000" spc="-1" strike="noStrike">
                <a:solidFill>
                  <a:srgbClr val="ff6600"/>
                </a:solidFill>
                <a:latin typeface="Symbol"/>
                <a:ea typeface="Symbol"/>
              </a:rPr>
              <a:t>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grate MPLS with all-optical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SPs are mapped into wavelength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end-to-end networking of optical channel paths between access poi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s point-to-point optical channe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X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avelength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Optical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witch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ptical Burst Switching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middle term solution towards all optical packet switc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ablish optical conne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tical burst determin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avelength assign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ource reserv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d-to-end connection setu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ptical Packet Switching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mize the exploitation of DWDM channe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arent optical packet routers carrying TCP/IP traffi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nimum electro-optical conver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cket label/header converted from optical to electrica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yload is switched op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DWDM Optical Router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g. 8.3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ctional block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-output interfac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tical space switc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ay line buff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ectronic contro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fig8-3" descr=""/>
          <p:cNvPicPr/>
          <p:nvPr/>
        </p:nvPicPr>
        <p:blipFill>
          <a:blip r:embed="rId1"/>
          <a:stretch/>
        </p:blipFill>
        <p:spPr>
          <a:xfrm>
            <a:off x="3809880" y="3913200"/>
            <a:ext cx="4800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gestion Resolu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eu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hieved by delay lines (coils of fib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avelength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avelength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avelength circuit (W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avelength packet (W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Performance over Optical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tency has significant impacts on TCP window evolu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xed latency with overlay approach and MP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riable latency with optical burst/packet switc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nd-to-End Dela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sists of thre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fac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cketization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ssion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d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ad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itching matrix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euing delay in fiber delay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pagation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apping TCP in Optical Packe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map TCP in optical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gh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rge bandwidth-delay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hare an optical pipe among many TCP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ll optical packets with TCP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ain an overview of optical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arn transport architectures for carrying TCP/IP traffic over optical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stand specific performance issues when TCP/IP traffic is transported over optical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ign optical packet switches which maximize TCP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ptical Packet Design in TCP/IP Environ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6002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cketization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g. 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timal value increases as the time-ou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cketization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gestio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ig8-7" descr=""/>
          <p:cNvPicPr/>
          <p:nvPr/>
        </p:nvPicPr>
        <p:blipFill>
          <a:blip r:embed="rId1"/>
          <a:stretch/>
        </p:blipFill>
        <p:spPr>
          <a:xfrm>
            <a:off x="3733920" y="3352680"/>
            <a:ext cx="47242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5053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protocol label switc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switc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Performance issu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2880" y="1523880"/>
            <a:ext cx="70632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Optical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volution of Optical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rst optic transmission system in early 7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switching emerged in last few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herent optical transmission based on DW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transparen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 optical to electrical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 functions performed in op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P over DWDM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lay approac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w efficienc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gh costs for network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P over SONE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rrying IP packets directly over SONE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out SONET layer (PPP/HDLC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P over DWDM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layer accessible through optical UNI (O-UNI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grated approac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grate IP control plane with the optical control pla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ctions of optical adaptation layer shifted into higher layers (similar to MPL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666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P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P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nection-oriented (as opposed to I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tion network layer function into two basic component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responsible for rout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ward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: responsible for processing packe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able high speed proces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29:46Z</dcterms:modified>
  <cp:revision>29</cp:revision>
  <dc:subject/>
  <dc:title>Objectives</dc:title>
</cp:coreProperties>
</file>