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51460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TCP/IP Performance over Asymmetric Networ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5040" y="2057400"/>
            <a:ext cx="7314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symmetry 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Perform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mpact of Bandwidth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Unidirectional data transfe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File download from a server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Normalised bandwidth ratio </a:t>
            </a:r>
            <a:r>
              <a:rPr b="0" i="1" lang="en-AU" sz="2000" spc="-1" strike="noStrike">
                <a:solidFill>
                  <a:srgbClr val="3333cc"/>
                </a:solidFill>
                <a:latin typeface="Times New Roman"/>
              </a:rPr>
              <a:t>k </a:t>
            </a: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determines the behaviour of TC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On average, only 1 ACK gets through for every k packets sen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Times New Roman"/>
              </a:rPr>
              <a:t>Increase the chance of data packet los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Times New Roman"/>
              </a:rPr>
              <a:t>Infrequent ACKs result in slower growth of congestion window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Times New Roman"/>
              </a:rPr>
              <a:t>Loss of ACKs could cause long idle period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Bidirectional data transfe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Exacerbate the problem due to bandwidth asymmetr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Times New Roman"/>
              </a:rPr>
              <a:t>Interaction between data packets of the upstream transfer and ACKs of the downstream transfer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mpact of Media-Access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 central base station suffers lower MAC overhead than distributed nod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MAC overhead makes it expensive to transmit packets in one direction when there is an ongoing data transfer in the opposite dire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mpact of Media-Access Asymmetry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ig. 10.6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7" name="fig10-6" descr=""/>
          <p:cNvPicPr/>
          <p:nvPr/>
        </p:nvPicPr>
        <p:blipFill>
          <a:blip r:embed="rId1"/>
          <a:stretch/>
        </p:blipFill>
        <p:spPr>
          <a:xfrm>
            <a:off x="3733920" y="2895480"/>
            <a:ext cx="44449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3623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Improv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Performance Enhancements over Asymmetric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wo key issues need to be addressed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anage bandwidth usage on the uplin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duce the number of ACK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void adverse impact of infrequent AC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olutions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Local link-layer solu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nd-to-end techniqu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Uplink Bandwidth Managemen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Can be realised by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ntrol the degree of compress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ntrol the frequenc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ontrol the scheduling of upstream AC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CP Header Compress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or use over low-bandwidth links running SLIP/PP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Reduce the size of ACKs on the slow uplin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ome problems remain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AC overhea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Independent of packet siz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dverse interaction with large upstream data packe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Bidirectional traffic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CK Filtering (AF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CP-aware link-layer techniqu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educe the number of TCP ACKs sent on upstream chan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outer maintains states for connections that have ACKs packets enqueue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Remove “redundant” ACKs packe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uplicate ACKs not remov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elective ACKs not remov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CK Congestion Control (ACC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Operate on an end-to-end ba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Apply congestion control to ACK packe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Mimic TCP congestion control mechanis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Employ delayed AC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One ACK sent for every </a:t>
            </a:r>
            <a:r>
              <a:rPr b="0" i="1" lang="en-AU" sz="28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 data packets receiv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One ACK acknowledges several data packe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Example: RED+EC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lain types of asymmetry that are present in today’s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rehend specific performance issues when TCP/IP traffic is transported over asymmetric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 techniques to address TCP performance problems in asymmetric environ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CKs-First Scheduling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CK packets may be delayed by data packets in a FIFO queu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eparate ACK packets from data packe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Give priority to AC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CK packets are usually small (compared with data packe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Minimal impacts in data packe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Large data packet still causes dela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Segment large data packet before transmiss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Handling Infrequent AC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one either end-to-end or locally at the constrained uplin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Sender Adaptation (SA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nd-to-end techniqu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he number of back-to-back packets can be sent is bound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ake into account the amount of data (rather than number of packets) receiv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imic the effect of delayed ACK algorith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CK Reconstruction (AR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Local techniqu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Reconstruct the ACK stream after it has traversed the upstream direction bottleneck link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nable implementation of AF or ACC with changes to TCP sende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Deploy a soft-state  agent called ACK reconstructor at the upstream en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ACK threshold determines the spacing between interspersed ACKs at the outp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CP senders can increase their cwnd at the right r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Times New Roman"/>
              </a:rPr>
              <a:t>Avoid burst behaviour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Experimental Evaluation:</a:t>
            </a:r>
            <a:br>
              <a:rPr sz="4000"/>
            </a:b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Bandwidth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Reno enhanced with ACC, AF, SA and A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F/AR and AF/SA have the best performanc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Table 10.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15%--21% increase in throughpu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Degree of burstiness is significantly reduce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A/AR is effective in overcoming the burstiness that results from a lossy ACK strea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Random drop is superior to  drop-tai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Experimental Evaluation:</a:t>
            </a:r>
            <a:br>
              <a:rPr sz="4000"/>
            </a:b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Media-Access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rotocols investigated: TCP Reno, Reno with ACC/SA and Reno with AF/S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F and ACC with SA yield better performance than Ren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Fig. 10.8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F/SA outperforms ACC/S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mprovement in throughpu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25% for 1 wireless ho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41% for 3 wireless hop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Experimental Evaluation:</a:t>
            </a:r>
            <a:br>
              <a:rPr sz="4000"/>
            </a:b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Media-Access Asymmetry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1" name="fig10-8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4864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381024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twork asymmet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w asymmetry degrades TCP performa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improvements over asymmetric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0640" y="2362320"/>
            <a:ext cx="474984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symmet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What is Network Asymmetry?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Network asymmetry refers to the situation where characteristics in the uplink are different than those in the downlin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Cable mod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ADS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atellit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Types of Network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Bandwidth asymmet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Media-access asymmet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Loss rate asymmet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Bandwidth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Forward and reverse bandwidth are significantly differ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ypically downlink bandwidth is 10-1000 times the uplink bandwidt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Example: Direct PC has a 400Kbps downlink and a 56Kbps dialup uplin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Media-Access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Can occur when transmitter and receiver use shared medium (wired or wireless), an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ransmitter experiences larger (smaller) MAC delay than receive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Can happen in both cellular and packet radio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Loss-Rate Asymmetry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Packet loss probability in the uplink may be different than that of downlin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This can happen if one of the links is more congested than the other, for examp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Loss-rate asymmetry can occur in any network, and it may be a transient phenomen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11:46:14Z</dcterms:modified>
  <cp:revision>34</cp:revision>
  <dc:subject/>
  <dc:title>Objectives</dc:title>
</cp:coreProperties>
</file>