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Performance over Satellite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atellite Characteristics Affecting TC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ng feedback loo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ble 9.4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pacts on TC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ow star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retransmit and fast recover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CP fairnes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atellite Characteristics Affecting TC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nk impair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ltipath fad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ferenc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in attenu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adow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gative impacts on TCP through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g. 9.5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4" name="fig9-5" descr=""/>
          <p:cNvPicPr/>
          <p:nvPr/>
        </p:nvPicPr>
        <p:blipFill>
          <a:blip r:embed="rId1"/>
          <a:stretch/>
        </p:blipFill>
        <p:spPr>
          <a:xfrm>
            <a:off x="3429000" y="2627280"/>
            <a:ext cx="5410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atellite Characteristics Affecting TC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ndwidth-delay produc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rge BDP limits TCP 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ble 9.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bility of TCP congestion contro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ndwidth asymmet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w bandwidth ACK path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low down the growth of TCP sender window during Slow Star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atellite Characteristics Affecting TC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riable delay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O handoff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ectral conges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3623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Enhanc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Enhancements for Satellite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th MTU discov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able a sender to find out the maximum possible TCP segment siz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for transa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duce handshaking latenc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 2 RTT to 1 RT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indow scal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Enhancements for Satellite Network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arge initial window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te count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layed ACKs after Slow Star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licit Congestion Notification (ECN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ple conne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ing TCP seg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ader compress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dvanced TCP Enhancements for Satellite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ick-Start TC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igh-speed TC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Peac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licit Transport Error Notification (ETEN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Westwoo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C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dvanced TCP Enhancements for Satellite Network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w transport protocol for satellite lin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igned specifically for satellite environmen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tellite Transport Protocol (STP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pace Communications Protocol Specifications-Transport Protocol (SCPS-TP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erformance Enhancement Proxy (PEP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rformance Enhancement Proxy (PEP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ically implemented at transport or application lay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tigate problems of TCP over satellite lin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s of PE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ansport lay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CP spoof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CP splitt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reciate the role of satellites in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ain insight into the fundamental satellite link characteristics affecting TCP performan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ose to a wide variety of approaches to address TCP performance issues in satellite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appropriate tools and techniques to improve TCP/IP performance over satellite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s of PEP (Cont.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lay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 cach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y Mail Transfer Ag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EP mechanis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ny PEPs use TCP ACK manipul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cal retransmissions (e.g. Snoop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 ACKs filtering and reconstruc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P Mechanism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rt compress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ndle link discontinuities or link outag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lications of using PEP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te shar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d-to-end reliabilit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d-to-end Diagnostic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urity with PEP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47246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tellit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aracteristics affecting TC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performance enhancements for satellite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6040" y="2666880"/>
            <a:ext cx="36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atelli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rief Histo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rst satellite network accessing the Internet (SATNET) initiated in mid 19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 ground stations connected by a simplex 64 Kbps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w generation satellite networks being developed to support Internet access and multi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ypes of Satellit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ace seg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eostationary orbit (GEO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Geostationary orbit (NGEO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dium Earth Orbit (ME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w Earth Orbit (LE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nd seg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otivations for Using Satellites in TCP/IP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biquitous cover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ndwidth flexibil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st-effecti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asy Deploy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iability and secur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aster recov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atellite Internet Architectur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tellite Internet can be classified into two major categories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nectivity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void some degree of ground infrastructur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cess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active connectivity to the Interne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ghly asymmetric lin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quency re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8108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haracteristic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ffecting TC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31:55Z</dcterms:modified>
  <cp:revision>31</cp:revision>
  <dc:subject/>
  <dc:title>Objectives</dc:title>
</cp:coreProperties>
</file>