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43800" y="655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High Performance TCP/IP Networking, Hassan-J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6858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600200" y="28954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7200" spc="-1" strike="noStrike">
                <a:solidFill>
                  <a:srgbClr val="ff6600"/>
                </a:solidFill>
                <a:latin typeface="Times New Roman"/>
              </a:rPr>
              <a:t>Introdu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Why Study TCP Performance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pendence on TCP/IP networ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critical role of TCP protocol engin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mergence of new networking technologies and environment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P convergenc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Dependence on TCP/IP Network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More people rely on TCP/IP networks than ever befor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Some use TCP/IP consciously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E.g. file downloa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Some use it without know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For example withdrawing money from ATM machi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Dependence on TCP/IP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We depend on TCP at office, home, and while on the mov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We depend on TCP not only for research, but also for critical business transactions and entertainmen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Internet (powered by TCP/IP) is now a key tool used by our kids to prepare their projects at school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Critical Role of TCP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Many believe that network performance can be boosted by simply upgrading hardwar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Not correct in many occas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TCP sits between application and network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TCP has total control of how application data should be released to the network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TCP is a complex protocol which interacts with many network elements in the end to end path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Unless TCP is optimized, hardware alone cannot boost network performance 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Emergence of New Networking Technologie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We are witnessing proliferation of different networking technologi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Wireless, satellite, optical etc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TCP algorithms suitable for one environment, do not always work best in anothe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Need for research into new algorithm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Times New Roman"/>
              </a:rPr>
              <a:t>Evidence: large number of articles on TCP are published every year in top journals and conferenc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IP Convergence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Many traditional non-TCP/IP industries are converging to TCP/IP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E.g. cellular communication, video and other entertainments, etc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Understanding TCP/IP performance fundamentals thus becomes important to scientists and engineers working in all these industri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1066680"/>
            <a:ext cx="63244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Performa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Metric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Performance Metric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und trip dela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time needed to travel from source to destination, plus the time to travel from destination back to the source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ne way dela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time needed to travel from source to destination, or from destination to sourc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ximum dela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ximum tolerable dela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Performance Metrics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lay variation (or jitter)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 Variation in delay for individual packets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cket loss rat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 Ratio of the number of packets lost (or corrupted) to the total number of packets transmitted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andwidth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 Application bytes transferred in seconds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Performance Metrics (Cont.)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roughput variatio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ariability in the received bandwidth over a given time scale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ile transfer ti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ime takes to transfer a file/object on the WWW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irnes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ong-term/short-term fairness among all TCP/UDP flow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source consumptio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mount of resource consumed, e.g. CPU cycles, memory usage, battery, etc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Objective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erstand the significance of TCP/IP in the modern era of pervasive computing and communic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reciate the need for designing and building high-performance TCP/IP network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ain a clear understanding of the metrics used for performance evaluation of TCP/IP network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523880"/>
            <a:ext cx="8153280" cy="3124440"/>
          </a:xfrm>
          <a:prstGeom prst="flowChart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CP Histor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CP Applicat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gnificance of TCP Performanc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erformance Metric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2880" y="2895480"/>
            <a:ext cx="51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TCP Histor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Birth of TCP/IP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973: First note by Dr. Vinton G. Cerf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the concept of TCP (no separate IP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974: Cerf &amp; Kahn published detailed discussion of TCP design in Transcom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ill no separate I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974: First official spec. of TCP in RFC 675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ill no separate I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978: Split into two protocol stack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CP: RFC 760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P: RFC 76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6600"/>
                </a:solidFill>
                <a:latin typeface="Times New Roman"/>
              </a:rPr>
              <a:t>Adoption of TCP/IP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1980: DoD adopts TCP/IP as preferred protocol for ARPAne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1983: All sites connected to ARPANet switch to TCP/IP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760" y="2362320"/>
            <a:ext cx="511092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TCP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Applicat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Basic TCP Applications 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mail (SMTP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eb browsing (HTTP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le transfer (FTP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mote login (RLOGIN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876920"/>
            <a:ext cx="81532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cc99"/>
                </a:solidFill>
                <a:latin typeface="Times New Roman"/>
              </a:rPr>
              <a:t>These are the most popular, standard TCP applications. Other customized applications can be built on top of these basic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fig1-1" descr=""/>
          <p:cNvPicPr/>
          <p:nvPr/>
        </p:nvPicPr>
        <p:blipFill>
          <a:blip r:embed="rId1"/>
          <a:stretch/>
        </p:blipFill>
        <p:spPr>
          <a:xfrm>
            <a:off x="4699080" y="2133720"/>
            <a:ext cx="4444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219320"/>
            <a:ext cx="8534160" cy="44193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5800" y="2362320"/>
            <a:ext cx="73144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Significance of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TCP Performa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13:04:32Z</dcterms:created>
  <dc:creator>AA</dc:creator>
  <dc:description/>
  <dc:language>en-US</dc:language>
  <cp:lastModifiedBy>Mahbub Hassan</cp:lastModifiedBy>
  <dcterms:modified xsi:type="dcterms:W3CDTF">2003-12-15T06:17:50Z</dcterms:modified>
  <cp:revision>34</cp:revision>
  <dc:subject/>
  <dc:title>Objectives</dc:title>
</cp:coreProperties>
</file>