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2514600"/>
            <a:ext cx="8381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Active Queu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Manag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43920" y="2209680"/>
            <a:ext cx="54370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Active Queu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Manag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Active Queue Management (AQM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rovide preventive measures to manage a buffer to eliminate problems associated with PQ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haracteristic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Preventive random packet drop is performed before the buffer is ful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he probability of preventive packet drop increases with the increasing level of conges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Goal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duce dropped packe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Support low-delay interactive servic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void lock-ou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andom Early Detection (RED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 router maintains two threshold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in_th: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ccept all packets until the queue reaches Min_th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Drop packets with a linear drop probability when the queue is greater than Min_th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ax_th: All packets are dropped with probability of 1when the queue exceeds this threshol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ED Algorithm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69" name="fig12-4" descr=""/>
          <p:cNvPicPr/>
          <p:nvPr/>
        </p:nvPicPr>
        <p:blipFill>
          <a:blip r:embed="rId1"/>
          <a:stretch/>
        </p:blipFill>
        <p:spPr>
          <a:xfrm>
            <a:off x="914400" y="1595520"/>
            <a:ext cx="5867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ED Drop Func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71" name="fig12-5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2296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Selection of Maximum Drop Probability for RED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election of Max_drop significantly affects the performance of R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oo small: Active packet drops not enough to prevent global synchronisa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oo large: Decreases the throughpu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Optimal value depends on number of connections, round trip time, etc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election of an optimal value for Max_drop remains an open issu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Calculation of the Average Queue Length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Avg queue length works as a low pass filter (LPF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Controls the active packet dro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ccumulate short term conges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race long term conges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Improves response tim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LPF Algorithm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77" name="fig12-6" descr=""/>
          <p:cNvPicPr/>
          <p:nvPr/>
        </p:nvPicPr>
        <p:blipFill>
          <a:blip r:embed="rId1"/>
          <a:stretch/>
        </p:blipFill>
        <p:spPr>
          <a:xfrm>
            <a:off x="914400" y="985680"/>
            <a:ext cx="579132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ED Varia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RED variants can be classified into two categories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ggregate contro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Modifying the calculation of the control variable and/or drop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Determines packet drop probabilit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er-flow contro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Configuring and setting RED’s paramete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ddresses fairness proble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Stabilized Random Early Drop (SRED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81" name="fig12-8" descr=""/>
          <p:cNvPicPr/>
          <p:nvPr/>
        </p:nvPicPr>
        <p:blipFill>
          <a:blip r:embed="rId1"/>
          <a:stretch/>
        </p:blipFill>
        <p:spPr>
          <a:xfrm>
            <a:off x="3962520" y="2286000"/>
            <a:ext cx="4647960" cy="2921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Proposed to make the RED queue st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Employs step drop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ig. 12.8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Good scalabilit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Drawback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Low throughpu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Exponential drop function may be used for improvem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lain the role of active queue management in performance optimization of TCP/IP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arn a range of active queue management algorithm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ain insight into performance analysis of active queue management algorithm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Double Slope RED (DSRED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Divides the queue between Min_th and Max_th into two seg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ifferent linear drop functions are used in the two segmen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Fig. 12.9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5" name="fig12-9" descr=""/>
          <p:cNvPicPr/>
          <p:nvPr/>
        </p:nvPicPr>
        <p:blipFill>
          <a:blip r:embed="rId1"/>
          <a:stretch/>
        </p:blipFill>
        <p:spPr>
          <a:xfrm>
            <a:off x="2590920" y="4237200"/>
            <a:ext cx="556236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DSRED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Adapts to the level of congestion by changing the slope of the drop fun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Higher throughpu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Lower queuing dela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andom Exponential Marking (REM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89" name="fig12-13" descr=""/>
          <p:cNvPicPr/>
          <p:nvPr/>
        </p:nvPicPr>
        <p:blipFill>
          <a:blip r:embed="rId1"/>
          <a:stretch/>
        </p:blipFill>
        <p:spPr>
          <a:xfrm>
            <a:off x="4699080" y="2971800"/>
            <a:ext cx="4444920" cy="3505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Decouples the congestion measure from performance meas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ttempts to match user rates to the available link capacit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Queue stabilises a small valu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End-to-end marking probability depends on the sum of link pric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ig. 12.13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BLU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Uses packet loss and link utilisation to measure network congestion directl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ewer configuration parameter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ncreases marking prob. when detects packet loss due to buffer overflow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ecreases marking prob. When detects that the marking prob. is too aggressiv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dvantage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duces packet loss r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Keeps the gateway queue st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ED Variants Using Per-Flow Accounting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Flow RED (FRED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Fair Buffering RED (FB-RED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XRE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Class-Based Threshold RED (CBT-RED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Balanced RED (BRED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Stochastic Fair Blue (SFB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FRED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ddresses the fairness proble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Notably between TCP and UDP sourc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mploys per-active-flow accounting to impose drop prob. depending on the use of buffer space (for each flow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alculates avg queue length for each flow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Done at both packet arrival and depart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ntains attacks from non-adaptive sources (e.g. UDP sources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FB-RED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ntent-based packet discarding schem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riority is computed for each arriving packe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void bandwidth waste due to useless packet transmiss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isadvantage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Needs extra fields in the IP header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Maintains per-flow stat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Significant processing overhead due to extra write/read ac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CBT-RED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Addresses fairness proble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Uses different queue thresholds for different traffic typ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Separates non-adaptive and adaptive traffic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Advant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rotects TCP traffic from attacks of UDP traffic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Disadvant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Needs traffic classifi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BRED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nforces fairness among TCP and UDP traffic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Regulates the bandwidth of a flow based on per-flow account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he buffer is divided into 4 segments, with each segment having a different drop prob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dvantag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chieves fairnes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isadvantag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quires per-flow stat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SFB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nforces fairness among TCP and UDP traffic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aintains N x M accounting bi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Bins behave like sub-queu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Hash function h[I] maps a flow into the j</a:t>
            </a:r>
            <a:r>
              <a:rPr b="0" i="1" lang="en-AU" sz="2800" spc="-1" strike="noStrike">
                <a:solidFill>
                  <a:srgbClr val="3333cc"/>
                </a:solidFill>
                <a:latin typeface="Times New Roman"/>
              </a:rPr>
              <a:t>th</a:t>
            </a: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 bin of Level I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UDP traffic is hashed into bins with drop prob. Equal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onitors sub-queue occupancy and adjust mark/drop prob. for each sub-queu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dvantag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Protect TCP traffic from non-adaptive UD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464832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ssive queue manage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ctive queue management (AQM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rison of AQM algorithm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QM and Differentiated Servi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erformance Evaluation of AQM Schem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mpare the performance of RED variants against a number of criteri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hroughpu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Dela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airnes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ime response (for interactive application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Modell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Simulation Configura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8" name="fig12-19" descr=""/>
          <p:cNvPicPr/>
          <p:nvPr/>
        </p:nvPicPr>
        <p:blipFill>
          <a:blip r:embed="rId1"/>
          <a:stretch/>
        </p:blipFill>
        <p:spPr>
          <a:xfrm>
            <a:off x="1219320" y="2130480"/>
            <a:ext cx="73152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Analysis Model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ingle bursty inpu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ixture of bursty and smooth traffic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" name="fig12-20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444920" cy="1854360"/>
          </a:xfrm>
          <a:prstGeom prst="rect">
            <a:avLst/>
          </a:prstGeom>
          <a:ln w="0">
            <a:noFill/>
          </a:ln>
        </p:spPr>
      </p:pic>
      <p:pic>
        <p:nvPicPr>
          <p:cNvPr id="112" name="fig12-21" descr=""/>
          <p:cNvPicPr/>
          <p:nvPr/>
        </p:nvPicPr>
        <p:blipFill>
          <a:blip r:embed="rId2"/>
          <a:stretch/>
        </p:blipFill>
        <p:spPr>
          <a:xfrm>
            <a:off x="4114800" y="4114800"/>
            <a:ext cx="44449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Results - Throughput and Fairnes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hroughpu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he throughput of RED is low with a large number of TCP connec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D gateways avoid bias against burst traffic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airnes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airness among TCP flow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airness between TCP and UDP traffic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Delay and Jitter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RED has a large jitter which is sensitive to </a:t>
            </a:r>
            <a:r>
              <a:rPr b="0" i="1" lang="en-AU" sz="32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he smaller the value of </a:t>
            </a:r>
            <a:r>
              <a:rPr b="0" i="1" lang="en-AU" sz="32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, the larger the delay varia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Relationship between </a:t>
            </a:r>
            <a:r>
              <a:rPr b="0" i="1" lang="en-AU" sz="32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, delay and jitte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able 12.2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ime Respons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RED is designed for long-lived TCP applications (e.g. FTP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or Web traffic, no clear advantage over drop tai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raffic Oscill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D may introduce network instability and traffic disru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he optimal configuration of RED parameters has been a proble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D results in large queue oscilla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Two-way traffic in bulk data transfer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Web traffic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362320"/>
            <a:ext cx="7467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Comparison of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AQM Algorithm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erformance Summa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able 12.3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057400"/>
            <a:ext cx="746784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AQM a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Differentiated Serv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AQM and DiffServ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RED with two configuration thresholds is recommended for DiffServ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RED In/Out (RIO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Other AQMs for propose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daptive priority  mark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dge based Congestion Management (ECM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9720" y="1828800"/>
            <a:ext cx="5793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Passive Queu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Manag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assive Queue Managemen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wo states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No packet dro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No early congestion warning to sende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100% packet dro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Cause all senders to back off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assive Queue Management Algorithms – </a:t>
            </a:r>
            <a:r>
              <a:rPr b="1" lang="en-AU" sz="3200" spc="-1" strike="noStrike">
                <a:solidFill>
                  <a:srgbClr val="ff6600"/>
                </a:solidFill>
                <a:latin typeface="Times New Roman"/>
              </a:rPr>
              <a:t>Drop Tai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Drop Tai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rop packets from the tail of the queu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ll arriving packets are dropped one the queue size reaches a certain threshol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3" name="fig12-1" descr=""/>
          <p:cNvPicPr/>
          <p:nvPr/>
        </p:nvPicPr>
        <p:blipFill>
          <a:blip r:embed="rId1"/>
          <a:stretch/>
        </p:blipFill>
        <p:spPr>
          <a:xfrm>
            <a:off x="1143000" y="4178160"/>
            <a:ext cx="579132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assive Queue Management Algorithms – </a:t>
            </a:r>
            <a:r>
              <a:rPr b="1" lang="en-AU" sz="3200" spc="-1" strike="noStrike">
                <a:solidFill>
                  <a:srgbClr val="ff6600"/>
                </a:solidFill>
                <a:latin typeface="Times New Roman"/>
              </a:rPr>
              <a:t>Drop From Front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Drop from Fro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rop packets from the front of the queu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rop the packet in the buffer with the oldest ag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6" name="fig12-2" descr=""/>
          <p:cNvPicPr/>
          <p:nvPr/>
        </p:nvPicPr>
        <p:blipFill>
          <a:blip r:embed="rId1"/>
          <a:stretch/>
        </p:blipFill>
        <p:spPr>
          <a:xfrm>
            <a:off x="838080" y="4226040"/>
            <a:ext cx="67820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assive Queue Management Algorithms – </a:t>
            </a:r>
            <a:r>
              <a:rPr b="1" lang="en-AU" sz="3200" spc="-1" strike="noStrike">
                <a:solidFill>
                  <a:srgbClr val="ff6600"/>
                </a:solidFill>
                <a:latin typeface="Times New Roman"/>
              </a:rPr>
              <a:t>Push Out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Push ou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he latest buffered packet is pushed out from the queu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ake room for a newly arriving packe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9" name="fig12-3" descr=""/>
          <p:cNvPicPr/>
          <p:nvPr/>
        </p:nvPicPr>
        <p:blipFill>
          <a:blip r:embed="rId1"/>
          <a:stretch/>
        </p:blipFill>
        <p:spPr>
          <a:xfrm>
            <a:off x="1066680" y="3938760"/>
            <a:ext cx="57913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roblems with Passive Queue Managemen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 trade-off between the buffer size and Q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Larger throughput results in higher throughput, but longer dela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Lock out: A single connection monopolises the buffer spac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Give rise to fairness proble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ull queue: Queue is full for a long period of tim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Long queuing dela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2:12:15Z</dcterms:modified>
  <cp:revision>41</cp:revision>
  <dc:subject/>
  <dc:title>Objectives</dc:title>
</cp:coreProperties>
</file>