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43800" y="655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High Performance TCP/IP Networking, Hassan-J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6858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251460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7200" spc="-1" strike="noStrike">
                <a:solidFill>
                  <a:srgbClr val="ff6600"/>
                </a:solidFill>
                <a:latin typeface="Times New Roman"/>
              </a:rPr>
              <a:t>TCP/IP Performance over Wireless Network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ellular Communications (CC) Network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rst generation (e.g. AM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dest bi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ircuit-swit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mployed TDMA/CDMA for medium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C Networks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igher transmission and propagation delays, compared with W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EC added to each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terleaving (of frames)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C Networks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6765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terconnected to other networks using Interworking Function (IW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g. 6.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fig6-1" descr=""/>
          <p:cNvPicPr/>
          <p:nvPr/>
        </p:nvPicPr>
        <p:blipFill>
          <a:blip r:embed="rId1"/>
          <a:stretch/>
        </p:blipFill>
        <p:spPr>
          <a:xfrm>
            <a:off x="990720" y="3544920"/>
            <a:ext cx="73911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Examples of CC System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ata rate: 9.6 K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40 bits ARQ (selective repe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ariable throughput and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S-1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ata rate: 9.6 K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dvanced ARQ (256 b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Examples of CC Systems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S-95 (CD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ata rate: 8.6 K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72 bits AR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egative 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rade reliability for limited delay var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42760" y="1905120"/>
            <a:ext cx="74394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CP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Performance over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Wireles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CP Performance Issue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appropriate reduction of congestion 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CP backs off upon detection of packet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ireless transmission errors not related to network cong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re degradation in TCP through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CP Performance Issues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roughput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ame Error Rate (F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2% reduction in Wave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C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creased processing delay due to interle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idely varying R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sruptions caused by link re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6360" y="2362320"/>
            <a:ext cx="663336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Improving TCP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Performa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CP Enhancement Scheme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plitting TCP Conn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plit TCP connections at wireless gate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duce TCP end-to-end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ignificant processing over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Objective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ain a high-level overview of the most widely used wireless networ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erstand how characteristics of wireless links adversely impact TCP performanc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arn techniques to enhance TCP/IP performance over wireless networ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CP Enhancement Schemes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nooping TCP at 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etter than split T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nfine retransmission to wireless paths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g. 6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fig6-4" descr=""/>
          <p:cNvPicPr/>
          <p:nvPr/>
        </p:nvPicPr>
        <p:blipFill>
          <a:blip r:embed="rId1"/>
          <a:stretch/>
        </p:blipFill>
        <p:spPr>
          <a:xfrm>
            <a:off x="457200" y="3657600"/>
            <a:ext cx="81532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CP Enhancement Schemes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tifying the causes of packet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plicit Loss Notification (EL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ork well together with Snoop T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ding selective ACK to T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bat multiple losses in one R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mparis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ngs need to consider when assess TCP enhancement schem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d-to-end semantic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P payload acces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ireless gateway overhea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ase of deploymen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able 6.4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609480"/>
            <a:ext cx="632484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Evolution of Wireless System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Evolution of Wireless System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ends in CC system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pport high bit rate data servic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SCS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PR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ird generation CC system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M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G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rends in WLA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vide high speed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pport mobility between adjacent networ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velop more efficient MAC protocol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ersonal Area Network (PAN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luetooth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MD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CP/IP over Heterogeneous Wireless System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alleng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ltiple systems co-exis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rect interoperability between different wireless syste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ierarchical cellular syste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earch project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lti-Service Link Layer (MSLL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ireless Internet Network (WINE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ireless Adaptation Layer (WAL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523880"/>
            <a:ext cx="8153280" cy="4496040"/>
          </a:xfrm>
          <a:prstGeom prst="flowChart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ireless networ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CP performance issues over wireless lin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mprove TCP performance over wireless lin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volution of wireless system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8360" y="2514600"/>
            <a:ext cx="393732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Wireless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Network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Generic characteristics of Wireless Network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milar propagation delay as wireline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igh error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tmospheric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ultipath f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Wireless LAN (WLAN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ireless link laye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rate at 900 MHz/2.4 GHz/5 GHz ban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thernet connectivity to higher layer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ame heade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ame checksum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ame frame siz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WLAN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C employs CSM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 Collision Detection (CD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ss/error recovery left to higher layer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terconnection with wired networ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rough a router equipped with both wired and wireless interfac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rough a transparent bridg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Examples of WLA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ucent’s WaveLa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900 MHz or 2.4 GHz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 Mbp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SMA/C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EEE 802.11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 enhancement over WaveLa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ptional ACK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LAN coordination (master hos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 or 2 Mbp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Examples of WLAN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EEE 802.11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rate a 5 GHz ban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it rate: between 6 and 54 Mbp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EEE 802.11b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rate a 2.4 GHz ban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it rate: 5.5/11 Mbp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3:04:32Z</dcterms:created>
  <dc:creator>AA</dc:creator>
  <dc:description/>
  <dc:language>en-US</dc:language>
  <cp:lastModifiedBy>Mahbub Hassan</cp:lastModifiedBy>
  <dcterms:modified xsi:type="dcterms:W3CDTF">2003-12-15T11:23:53Z</dcterms:modified>
  <cp:revision>26</cp:revision>
  <dc:subject/>
  <dc:title>Objectives</dc:title>
</cp:coreProperties>
</file>