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43800" y="6553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55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High Performance TCP/IP Networking, Hassan-J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6858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Times New Roman"/>
              </a:rPr>
              <a:t>Chapter 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57200" y="25146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7200" spc="-1" strike="noStrike">
                <a:solidFill>
                  <a:srgbClr val="ff6600"/>
                </a:solidFill>
                <a:latin typeface="Times New Roman"/>
              </a:rPr>
              <a:t>TCP Implement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Data Retransmission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TCP sender uses </a:t>
            </a:r>
            <a:r>
              <a:rPr b="0" i="1" lang="en-AU" sz="2800" spc="-1" strike="noStrike">
                <a:solidFill>
                  <a:srgbClr val="3333cc"/>
                </a:solidFill>
                <a:latin typeface="Times New Roman"/>
              </a:rPr>
              <a:t>retransmission timer</a:t>
            </a: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 to derive retransmission of unacknowledged data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Retransmits a segment if the timer fir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Retransmission timeout (RTO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RTO&lt;RTT: Aggressive; too many retransmiss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RTO&gt;RTT: Conservative; low utilisation due to connection id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In practice, adaptive retransmission timer with back-off is used (Specified in RFC 2988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Congestion Control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A retransmission event indicates (to TCP sender) that the network is congested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Congestion management is a function of the end-syste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RFC 2581 requires TCP end-systems respond to congestion by reducing sending r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Times New Roman"/>
              </a:rPr>
              <a:t>AIMD</a:t>
            </a: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: Additive Increase Multiplicative Decreas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TCP sender probes for available bandwidth on the network path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Upon detection of congestion, TCP sender multiplicatively reduces </a:t>
            </a:r>
            <a:r>
              <a:rPr b="0" i="1" lang="en-AU" sz="2000" spc="-1" strike="noStrike">
                <a:solidFill>
                  <a:srgbClr val="3333cc"/>
                </a:solidFill>
                <a:latin typeface="Times New Roman"/>
              </a:rPr>
              <a:t>cwnd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Achieves fairness among TCP connection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53200" y="2057400"/>
            <a:ext cx="741816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High Performa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TC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TCP Implementation with High Bandwidth-Delay Product 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High bandwidth-delay product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High speed networks (e.g. optical network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High-latency networks (e.g. satellite network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Collectively called Long Fat Networks (LFN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LFNs require large window size (more than 16 bits as originally defined for TCP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3333cc"/>
                </a:solidFill>
                <a:latin typeface="Times New Roman"/>
              </a:rPr>
              <a:t>Window scale option</a:t>
            </a: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 allows TCP sender to advertise large window size (e.g. 1 Gbyte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Specified at connection setu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Limits window sizes in units of up to 16K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Round Trip Time Estimati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Accuracy of RTT estimation depends on frequent sample measurements of RT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Percentage of segments sampled decreases with larger window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May be insufficient for LF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Timestamp op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Enables the sender to compute RTT sampl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Provides safeguard against accepting out-of-sequence number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Path MTU Discovery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Most efficient by using the largest MSS without segmenta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Enables TCP sender to automatically discover the largest acceptable MS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TCP implementation must correctly handle dynamic changes to MS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Never leaves more than 2*MSS bytes of data unacknowledged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TCP sender may need to segment data for retransmiss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2362320"/>
            <a:ext cx="746748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End-Syste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Overhea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Reduce End-System Overhead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TCP imposes processing overhead in operating system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Adds directly to latency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Consumes a significant share of CPU cycles and memory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Reducing overhead can improve application throughpu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Relationship Between Bandwidth and CPU Utilizati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79" name="fig13-4a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65530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Achievable Throuput for Host-Limited System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81" name="fig13-4b" descr=""/>
          <p:cNvPicPr/>
          <p:nvPr/>
        </p:nvPicPr>
        <p:blipFill>
          <a:blip r:embed="rId1"/>
          <a:stretch/>
        </p:blipFill>
        <p:spPr>
          <a:xfrm>
            <a:off x="609480" y="1498680"/>
            <a:ext cx="6934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Objective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derstand the structure of typical TCP implementa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utline the implementation of extended standards for TCP over high-performance network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derstand the sources of end-system overhead in typical TCP implementations, and techniques to minimize them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Quantify the effect of end-system overhead and buffering on TCP performanc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derstand the role of Remote Direct Memory Access (RDMA) extensions for high-performance IP networking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Sources of Overhead for TCP/IP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Per-transfer overhea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Per-packet overhea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Per-byte overhea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Fig. 13.5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84" name="fig13-5" descr=""/>
          <p:cNvPicPr/>
          <p:nvPr/>
        </p:nvPicPr>
        <p:blipFill>
          <a:blip r:embed="rId1"/>
          <a:stretch/>
        </p:blipFill>
        <p:spPr>
          <a:xfrm>
            <a:off x="3657600" y="1676520"/>
            <a:ext cx="444492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Per-Packet Overhead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Increasing packet size can mitigate the impact of per-packet and per-segment overhea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Fig. 13.6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Increasing segment size </a:t>
            </a:r>
            <a:r>
              <a:rPr b="0" i="1" lang="en-AU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 increases achievable bandwidth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As packet size grows, the effect of per-packet overhead becomes less significa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Interrupt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A significant source of per-packet overhead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Relationship between Packet Size and Achievable Bandwidth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88" name="fig13-6a" descr=""/>
          <p:cNvPicPr/>
          <p:nvPr/>
        </p:nvPicPr>
        <p:blipFill>
          <a:blip r:embed="rId1"/>
          <a:stretch/>
        </p:blipFill>
        <p:spPr>
          <a:xfrm>
            <a:off x="304920" y="1814400"/>
            <a:ext cx="617220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Relationship between Packet Overhead and Bandwidth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90" name="fig13-6b" descr=""/>
          <p:cNvPicPr/>
          <p:nvPr/>
        </p:nvPicPr>
        <p:blipFill>
          <a:blip r:embed="rId1"/>
          <a:stretch/>
        </p:blipFill>
        <p:spPr>
          <a:xfrm>
            <a:off x="838080" y="1727280"/>
            <a:ext cx="6400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Checksum Overhead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A source of per-byte overhead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Ways for reducing checksum overhead: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Complete multiple steps in a single traversal to reduce per-byte overhea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Integrate chechsumming with the data copy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Compute the checksum in hardwar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23623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Copy Avoida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Copy Avoidance for High-Performance TCP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Page remapping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Uses virtual memory to reduce copying across the TCP/user interface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Typically resides at the socket layer in the OS kernel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Scatter/gather I/O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Does not require copy semantic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Entails a comprehensive restructuring of OS and I/O interface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Remote Direct Memory Access (RDMA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Steers incoming data directly into user-specified buffer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IETF standards under way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3623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TCP Offloa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TCP Offload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Supports TCP/IP protocol functions directly on the network adapter (NIC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Processing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TCP checksum offloading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Significantly reduces per-packet overheads for TCP/IP protocol proces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Helps to avoid expensive copy operatio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523880"/>
            <a:ext cx="8153280" cy="4267440"/>
          </a:xfrm>
          <a:prstGeom prst="flowChart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ontent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 of TCP implement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igh-performance TCP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nd-system overhead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py avoidanc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CP offload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2320" y="2286000"/>
            <a:ext cx="643068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Implement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Overall Structure (RFC 793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50" name="fig13-1" descr=""/>
          <p:cNvPicPr/>
          <p:nvPr/>
        </p:nvPicPr>
        <p:blipFill>
          <a:blip r:embed="rId1"/>
          <a:stretch/>
        </p:blipFill>
        <p:spPr>
          <a:xfrm>
            <a:off x="457200" y="1827360"/>
            <a:ext cx="8381880" cy="6298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Internal structure specified in RFC 793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Fig. 13.1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Data Structure of TCP Endpoint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Data structure of TCP endpoint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Times New Roman"/>
              </a:rPr>
              <a:t>Transmission control block</a:t>
            </a: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: Stores the connection state and </a:t>
            </a:r>
            <a:r>
              <a:rPr b="1" lang="en-AU" sz="2000" spc="-1" strike="noStrike">
                <a:solidFill>
                  <a:srgbClr val="3333cc"/>
                </a:solidFill>
                <a:latin typeface="Times New Roman"/>
              </a:rPr>
              <a:t>related variable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Transmit queue: Buffers containing outstanding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Times New Roman"/>
              </a:rPr>
              <a:t>Receiver queue</a:t>
            </a: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: Buffers for received data (but not yet forwarded to higher layer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4" name="fig13-2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83059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Buffering and Data Movement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Buffer queues reside in the protocol-independent socket layer within the operating system kern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TCP sender upcalls to the transmit queue to obtain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TCP receiver notifies the receive queue of correct arrival of incoming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BSD-derived kernels implement buffers in mbuf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Moves data by reference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Reduces the need to copy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Most implementations commit buffer space to the queue lazil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Queues consume memory only when the bandwidth of the network  does not match the rate at which TCP user produces/consumes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User Memory Acces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Provides for movement of data to and from the memory of the TCP use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Copy semantic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3333cc"/>
                </a:solidFill>
                <a:latin typeface="Times New Roman"/>
              </a:rPr>
              <a:t>SEND</a:t>
            </a: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0" i="1" lang="en-AU" sz="2400" spc="-1" strike="noStrike">
                <a:solidFill>
                  <a:srgbClr val="3333cc"/>
                </a:solidFill>
                <a:latin typeface="Times New Roman"/>
              </a:rPr>
              <a:t>RECEIVE</a:t>
            </a: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 are defined with copy semantic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The user can modify a send buffer at the time the SEND is issued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Direct acces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Allows TCP to access the user buffers directl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Bypasses copying of dat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TCP Data Exchange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60" name="fig13-3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7391160" cy="3189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TCP endpoints cooperate by exchanging segmen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Each segment contains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Sequence number </a:t>
            </a:r>
            <a:r>
              <a:rPr b="0" i="1" lang="en-AU" sz="2400" spc="-1" strike="noStrike">
                <a:solidFill>
                  <a:srgbClr val="3333cc"/>
                </a:solidFill>
                <a:latin typeface="Times New Roman"/>
              </a:rPr>
              <a:t>seg.seq, s</a:t>
            </a: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egment data length </a:t>
            </a:r>
            <a:r>
              <a:rPr b="0" i="1" lang="en-AU" sz="2400" spc="-1" strike="noStrike">
                <a:solidFill>
                  <a:srgbClr val="3333cc"/>
                </a:solidFill>
                <a:latin typeface="Times New Roman"/>
              </a:rPr>
              <a:t>seg.len, </a:t>
            </a: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status bits, ack seq number </a:t>
            </a:r>
            <a:r>
              <a:rPr b="0" i="1" lang="en-AU" sz="2400" spc="-1" strike="noStrike">
                <a:solidFill>
                  <a:srgbClr val="3333cc"/>
                </a:solidFill>
                <a:latin typeface="Times New Roman"/>
              </a:rPr>
              <a:t>seg.ack, </a:t>
            </a: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advertised receive window size </a:t>
            </a:r>
            <a:r>
              <a:rPr b="0" i="1" lang="en-AU" sz="2400" spc="-1" strike="noStrike">
                <a:solidFill>
                  <a:srgbClr val="3333cc"/>
                </a:solidFill>
                <a:latin typeface="Times New Roman"/>
              </a:rPr>
              <a:t>seg.wnd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Fig. 13.3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13:04:32Z</dcterms:created>
  <dc:creator>AA</dc:creator>
  <dc:description/>
  <dc:language>en-US</dc:language>
  <cp:lastModifiedBy>Mahbub Hassan</cp:lastModifiedBy>
  <dcterms:modified xsi:type="dcterms:W3CDTF">2003-12-15T12:32:38Z</dcterms:modified>
  <cp:revision>36</cp:revision>
  <dc:subject/>
  <dc:title>Objectives</dc:title>
</cp:coreProperties>
</file>