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00200" y="2895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 Model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2590920"/>
            <a:ext cx="53146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Model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Gallery of TCP Model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eriodic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etailed packet loss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tochastic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ontrol system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Network system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eriodic Mode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implest model for TC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o specific flavor assum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ssumes a periodic pattern of congestion window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ee Fig 5.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X(p) = (1/RTT)*Root(3/2p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 is the packet loss probabilit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5" name="fig5-1" descr=""/>
          <p:cNvPicPr/>
          <p:nvPr/>
        </p:nvPicPr>
        <p:blipFill>
          <a:blip r:embed="rId1"/>
          <a:stretch/>
        </p:blipFill>
        <p:spPr>
          <a:xfrm>
            <a:off x="3657600" y="2798640"/>
            <a:ext cx="5334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xample 1 - Ques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971800"/>
            <a:ext cx="784872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cc99"/>
                </a:solidFill>
                <a:latin typeface="Times New Roman"/>
              </a:rPr>
              <a:t>If a TCP connection has an average RTT of 200ms, and packet loss probability 0.05, what is the average throughp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xample 1 - Answer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362320"/>
            <a:ext cx="74674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TT=0.2, p=0.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Using Eq. (5.4), throughput is obta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X=(1/0.2)*(root(3/2x0.05)) = 27.4 pkts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reciate mathematical modeling of TCP for performance optimization of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erstand the fundamental relationship between packet loss probability and TCP performan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y a range of mathematical models to predict TCP performan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1244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sentials of TCP model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mode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2160" y="2895480"/>
            <a:ext cx="44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otivation for TCP Modeling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operating scale is very lar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dels are required to gain deeper understanding of TCP dynamic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certainties can be modeled as stochastic process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rive the design of TCP-friendly algorithms for multimedia applic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mize TCP performa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9440" y="2362320"/>
            <a:ext cx="594756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Essentials of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Model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Modeling Essential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Mainly Reno flavors are model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wo main features are model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Window dynamic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acket loss proce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Window Dynamic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Linear increase and multiplicative decrease is model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he standard assump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X(t) = W(t)/RT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acket Loss Proces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acket loss triggers window decreas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acket loss is uncertai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his uncertainty is typically modeled as a stochastic proces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.g. probability 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 of losing a packe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17:44Z</dcterms:modified>
  <cp:revision>33</cp:revision>
  <dc:subject/>
  <dc:title>Objectives</dc:title>
</cp:coreProperties>
</file>